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2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11.jpeg" ContentType="image/jpeg"/>
  <Override PartName="/ppt/media/image24.png" ContentType="image/png"/>
  <Override PartName="/ppt/media/image25.jpeg" ContentType="image/jpeg"/>
  <Override PartName="/ppt/media/image4.gif" ContentType="image/gif"/>
  <Override PartName="/ppt/media/image27.png" ContentType="image/png"/>
  <Override PartName="/ppt/media/image29.png" ContentType="image/png"/>
  <Override PartName="/ppt/media/image6.gif" ContentType="image/gif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B2A7-52C7-49CD-9728-7901CC5F8B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F3FA-6CE7-4A35-85B6-B67FD80FEEC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단순화된 그림에서는 아리스토텔레스 체계와 잘 부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완전하게 묘사할 경우엔 아리스토텔레스 체계와 갈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058D-A42F-469A-AC5B-21D4DD008FB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4519-09F3-4391-967A-F5F2B6E34BF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코페르니쿠스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폴란드 출신의 교회 행정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탈리아 유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신플라톤주의자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들과 교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교황청 주도의 달력 개정 사업에 참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151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년경 지구가 태양 주위를 돈다고 생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9A2C-5346-46AB-AC9B-792ECCD0728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특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equant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용에 대한 불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부등속 운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A45-EAF7-494C-95BF-9F02C845C34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D87C-3A58-45D6-8192-C6A607BB16C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천동설에서는 복잡한 가정을 도입해 설명해야 하는 </a:t>
            </a:r>
            <a:r>
              <a:rPr b="1" lang="en-US" sz="2000" spc="-1" strike="noStrike">
                <a:solidFill>
                  <a:srgbClr val="c0504d"/>
                </a:solidFill>
                <a:latin typeface="맑은 고딕"/>
              </a:rPr>
              <a:t>(1)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행성의 순서 </a:t>
            </a:r>
            <a:r>
              <a:rPr b="1" lang="en-US" sz="2000" spc="-1" strike="noStrike">
                <a:solidFill>
                  <a:srgbClr val="c0504d"/>
                </a:solidFill>
                <a:latin typeface="맑은 고딕"/>
              </a:rPr>
              <a:t>(2)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외행성의 역행 </a:t>
            </a:r>
            <a:r>
              <a:rPr b="1" lang="en-US" sz="2000" spc="-1" strike="noStrike">
                <a:solidFill>
                  <a:srgbClr val="c0504d"/>
                </a:solidFill>
                <a:latin typeface="맑은 고딕"/>
              </a:rPr>
              <a:t>(3)</a:t>
            </a:r>
            <a:r>
              <a:rPr b="1" lang="ko-KR" sz="2000" spc="-1" strike="noStrike">
                <a:solidFill>
                  <a:srgbClr val="c0504d"/>
                </a:solidFill>
                <a:latin typeface="맑은 고딕"/>
              </a:rPr>
              <a:t>내행성의 최대 이각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 현상을 훨씬 더 간단하게 설명해 준다는 점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주로 단순성</a:t>
            </a:r>
            <a:r>
              <a:rPr b="0" lang="en-US" sz="20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경제성</a:t>
            </a:r>
            <a:r>
              <a:rPr b="0" lang="en-US" sz="20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조화로움</a:t>
            </a:r>
            <a:r>
              <a:rPr b="0" lang="en-US" sz="20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c0504d"/>
                </a:solidFill>
                <a:latin typeface="맑은 고딕"/>
              </a:rPr>
              <a:t>아름다움과 같은 </a:t>
            </a:r>
            <a:r>
              <a:rPr b="1" lang="ko-KR" sz="2000" spc="-1" strike="noStrike" u="sng">
                <a:solidFill>
                  <a:srgbClr val="cc0000"/>
                </a:solidFill>
                <a:uFillTx/>
                <a:latin typeface="맑은 고딕"/>
              </a:rPr>
              <a:t>‘미학적’ 우월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1E12-5384-475E-A8FF-A4A898EBAB6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톨레마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주전원이라는 별도의 가정 도입 필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우주구조 자체로 설명 </a:t>
            </a:r>
            <a:r>
              <a:rPr b="0" lang="ko-KR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 실제가 아니라 겉보기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BD11-C59A-471F-B541-0E1DDA471EB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수성과 금성의 경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태양과 함께 몰려 다니는 현상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프톨레마이오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1" lang="ko-KR" sz="2200" spc="-1" strike="noStrike">
                <a:solidFill>
                  <a:srgbClr val="c0504d"/>
                </a:solidFill>
                <a:latin typeface="맑은 고딕"/>
              </a:rPr>
              <a:t>주전원 가정’과 또 다른 ‘별도의 가정’ 필요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코페르니쿠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1" lang="ko-KR" sz="2200" spc="-1" strike="noStrike">
                <a:solidFill>
                  <a:srgbClr val="c0504d"/>
                </a:solidFill>
                <a:latin typeface="맑은 고딕"/>
              </a:rPr>
              <a:t>우주 구조 자체’에서 비롯되는 겉보기 운동 현상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F19-DED4-4BA5-81FA-B8726EE1A8E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성의 순서’ 혹은 ‘행성의 주기’ 문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톨레마이오스의 우주체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t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임의적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 u="sng">
                <a:solidFill>
                  <a:srgbClr val="c0504d"/>
                </a:solidFill>
                <a:uFillTx/>
                <a:latin typeface="맑은 고딕"/>
              </a:rPr>
              <a:t>수성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맑은 고딕"/>
              </a:rPr>
              <a:t>=?</a:t>
            </a:r>
            <a:r>
              <a:rPr b="0" lang="ko-KR" sz="1200" spc="-1" strike="noStrike" u="sng">
                <a:solidFill>
                  <a:srgbClr val="c0504d"/>
                </a:solidFill>
                <a:uFillTx/>
                <a:latin typeface="맑은 고딕"/>
              </a:rPr>
              <a:t>금성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맑은 고딕"/>
              </a:rPr>
              <a:t>=?</a:t>
            </a:r>
            <a:r>
              <a:rPr b="0" lang="ko-KR" sz="1200" spc="-1" strike="noStrike" u="sng">
                <a:solidFill>
                  <a:srgbClr val="c0504d"/>
                </a:solidFill>
                <a:uFillTx/>
                <a:latin typeface="맑은 고딕"/>
              </a:rPr>
              <a:t>태양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화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토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우주체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성반경과 주기 사이의 조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금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구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화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성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토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E4F-470E-4645-86D8-B019E4AC382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D5E2-3362-4089-92C4-5BF7E5A567A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B299-42BB-4D11-805E-1499ADF8F58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16B-1318-4EEE-BDCC-DB1775B6927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151-F586-4FAC-AD5C-04A08E3A0D3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6E2-96C2-4AE5-A668-B200EA51B7C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FFF-25D7-431A-9F69-EAA0E2620D6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A610-2087-4393-AADC-736CF980D31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4595-1BFA-4DD3-8776-1C067EE90CF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A042-4ABC-4275-9E7D-F8670CC0491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의 지동설 근거는 매우 허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목적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리스토텔레스 우주론 내에서 지구 운동 허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의 주요근거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출처 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스콜라 철학 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Oresme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규칙성은 원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조합 외에는 불가능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는 천체와 같이 구형 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따라서 지구도 원운동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스러운 운동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왜 담긴 것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아니라 담은 것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 움직여야 하는가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 회전 속도의 문제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한한 것은 움직일 수 없다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등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득력 부족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을 원래 믿을 사람에게나 진지하게 읽혀질 부분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주된 관심사 아니었음</a:t>
            </a:r>
            <a:r>
              <a:rPr b="0" lang="en-US" sz="1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C44-59A3-4269-BF45-ADC830D7940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지만 너무 복잡해서 실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6A4B-4C05-46F6-8CC6-7FF9147B6AC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49C5-D012-4DE5-B0A2-88F3BC054E7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60F0-B5B3-4873-9CEF-7B8F09D78F3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1372-CCD0-48D8-A7D9-F796B9111D2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덴마크 벤 섬에 세운 우라니보르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A36-EC64-450B-9C49-5F6871C4C40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7A10-A734-453D-A66F-E7D1AAD2861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F903-B204-48FD-BDAA-83609C5D782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D20-7DA2-4E6B-BFAE-9DDC6309500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20FD-7B0C-4544-850F-53CE520D8C6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4FE5-9DC6-4487-8D0A-C68A915BAFE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6CD-430C-4ADB-A057-69A3FE43EEE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E0E2-F755-49AA-8E31-225120FAC88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c0504d"/>
                </a:solidFill>
                <a:latin typeface="맑은 고딕"/>
              </a:rPr>
              <a:t>다섯 정다면체로 행성들의 궤도 크기 해명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1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0" lang="ko-KR" sz="2100" spc="-1" strike="noStrike">
                <a:solidFill>
                  <a:srgbClr val="c0504d"/>
                </a:solidFill>
                <a:latin typeface="맑은 고딕"/>
              </a:rPr>
              <a:t>안쪽부터 </a:t>
            </a:r>
            <a:r>
              <a:rPr b="0" lang="en-US" sz="2100" spc="-1" strike="noStrike">
                <a:solidFill>
                  <a:srgbClr val="c0504d"/>
                </a:solidFill>
                <a:latin typeface="맑은 고딕"/>
              </a:rPr>
              <a:t>8-20-12-4-6)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276C-8584-4A62-8F6D-15053846299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공유된 믿음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지구의 정지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천상계의 원운동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하늘의 일주운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동→서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태양의 연주운동과 행성의 운동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서→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수성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금성의 최대이각 존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행성의 역행운동 존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B31A-83C9-43C9-9769-4D35EEA255E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B9B-CD81-4B11-97D3-9C44C2BE51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DB4F-391F-4D48-BCC8-6107B036B5C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358-26AD-417C-8AD2-A63A8C5BF7C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A14D-5188-4AEB-83C6-C4D767D4A9C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3DBB-666A-4E4D-A555-92DDED41412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52D9-E53B-41B1-911B-71FF6487C72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637-BC00-4800-ABC2-2665FDE3EB6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F3A-DCA1-443D-AC3D-540CC97287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2A6A-3F00-4D87-A5FD-5C412BD2E2E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913A-DADB-4ED4-98C2-2F776666EFC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ACC-E4D0-4421-9D8B-E27A626FE6E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E28-4099-41FA-B633-1403C1ECCA5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98E-09CD-4A3F-841F-6446A4ECD56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8313-0327-457E-8051-2C75FDF64B2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의 자연철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운동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잘 부합하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28FF-0871-4659-8FDB-63438975FCD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6A2-6F2B-44A1-98B1-8303BDF2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C1F-A0AC-45BE-9275-02833937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A91-9E68-4952-9D65-7AAA8926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6DA-A272-4C33-9178-06243911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244B-10DC-40E9-8DC6-9C1D472B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A1C-3E71-4B54-87DF-A728868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D30E-B127-4E03-9634-0E61FE72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1E36-3415-470C-B921-B266F6C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8E80-04BB-4D7B-B82B-8B16E49B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556C-0334-4287-A554-5DF08689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5FD-76E6-4966-B254-299D4CB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250-29F0-48AF-97FA-E6E6304E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E461-ADE9-45B7-B4DE-73142A7C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1687-C380-45A7-A537-FB4FFEB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DE32-530A-4E47-BC9A-13C98FE0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E57F-9D14-405F-A237-425C414A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778F-42B2-41B4-9903-A824667D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EC0DC-7476-428F-9598-0EDEFB5B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42591-8C3C-4E9B-BF27-2F374E2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30BB-705E-477E-AD70-A598D9BC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3B92C-6514-48F3-B4B2-AEF66F5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116CC-60A7-48B0-B38A-B2B44828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2E1-3865-4558-A381-2D856AD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CADB7-7810-465C-9B8B-AF578C8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8CFDC-942E-421B-83F1-28CDFDC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FD1AA-321E-4ECA-9BEE-B44CF132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B2250-3EA9-4BC0-A142-B99B952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374A0-3C7C-4C3E-84BE-AF79E8B6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F0271-A96F-4BD8-A25B-70ADD7CC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2447E-DF14-4B91-B085-3B58F652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6EE9-C7E5-490A-A247-BBB5E2CF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84E1-0CAC-46DF-B034-CBC0918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D9DF-2143-45B2-977E-37738339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0B0-18F1-4A52-8CC6-92E90618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E03E-EF63-47A6-B038-FB6B9F23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3A22-8F3E-4E2B-A301-638A8E4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54F5-EA0D-4034-AB37-BC86CA7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2ED6-E18F-49FD-B8D8-264F9AA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AC69-F787-44C6-9F84-84DCB25B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C535-3B5B-4280-8A10-B5F6704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EF73-E6CD-4AFA-9390-129BE95A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99FC-D8EB-4B06-A944-9C2E28F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F855-04F2-4559-AAD3-1EF06204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0E8-FFA0-4F75-AA4B-FEEF2B5F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555-A3DB-44FC-A251-CCF6DC25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00B-059F-4396-B84C-153F7B0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380-09A1-4CBC-BAB1-6D5B6C9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C0B-F15D-48CD-9E43-74C9061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8F9A-AD7B-4833-A8EA-BD98937CF23E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1C7F-81A3-4821-A17D-EBCB5636753D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3CCE-B6DD-4503-B4CE-FA18D0DC2C56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B09B-301E-4854-A920-CFD342B41B0D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699920"/>
            <a:ext cx="84582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코페르니쿠스와 </a:t>
            </a:r>
            <a:br>
              <a:rPr sz="6000"/>
            </a:b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천문학 혁명</a:t>
            </a:r>
            <a:endParaRPr b="1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프톨레마이오스의 우주 체계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7" name="Picture 4" descr="프톨레마이오스 우주모형"/>
          <p:cNvPicPr/>
          <p:nvPr/>
        </p:nvPicPr>
        <p:blipFill>
          <a:blip r:embed="rId1"/>
          <a:srcRect l="0" t="0" r="0" b="21991"/>
          <a:stretch/>
        </p:blipFill>
        <p:spPr>
          <a:xfrm>
            <a:off x="0" y="1125360"/>
            <a:ext cx="4643280" cy="43912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49" name="_x113946544" descr="EMB00001f382367"/>
          <p:cNvPicPr/>
          <p:nvPr/>
        </p:nvPicPr>
        <p:blipFill>
          <a:blip r:embed="rId2"/>
          <a:stretch/>
        </p:blipFill>
        <p:spPr>
          <a:xfrm>
            <a:off x="4824360" y="1125360"/>
            <a:ext cx="431964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중세의 천문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알마게스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굴 및 번역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경이 되어서야 완전히 소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코페르니쿠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Copernicus)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Kingdom of Poland, 1473-1543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4" name="Picture 6" descr="Copernicus"/>
          <p:cNvPicPr/>
          <p:nvPr/>
        </p:nvPicPr>
        <p:blipFill>
          <a:blip r:embed="rId1"/>
          <a:stretch/>
        </p:blipFill>
        <p:spPr>
          <a:xfrm>
            <a:off x="2627280" y="692280"/>
            <a:ext cx="3529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톨레마이오스의 체계는 괴물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질적 원리 조합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주의 조화와 대칭성 훼손</a:t>
            </a:r>
            <a:endParaRPr b="0" lang="en-US" sz="26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40000" y="1981080"/>
            <a:ext cx="4354200" cy="36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300" spc="-1" strike="noStrike">
                <a:solidFill>
                  <a:srgbClr val="ffffff"/>
                </a:solidFill>
                <a:latin typeface="Trebuchet MS"/>
              </a:rPr>
              <a:t>천구의 회전에 관하여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(1543)</a:t>
            </a:r>
            <a:endParaRPr b="1" lang="en-US" sz="2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40000" y="5660640"/>
            <a:ext cx="43542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태양중심설 주장</a:t>
            </a:r>
            <a:endParaRPr b="0" lang="en-US" sz="21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9" name="Picture 4" descr="copernicus1-1"/>
          <p:cNvPicPr/>
          <p:nvPr/>
        </p:nvPicPr>
        <p:blipFill>
          <a:blip r:embed="rId1"/>
          <a:stretch/>
        </p:blipFill>
        <p:spPr>
          <a:xfrm>
            <a:off x="684360" y="981000"/>
            <a:ext cx="331128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태양중심설의 장점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Harmony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d9d9d9"/>
                </a:solidFill>
                <a:latin typeface="Georgia"/>
              </a:rPr>
              <a:t>가지 현상을 지구중심설보다 간단하게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행성의 역행 운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20066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4" name="Picture 4" descr="retrograde"/>
          <p:cNvPicPr/>
          <p:nvPr/>
        </p:nvPicPr>
        <p:blipFill>
          <a:blip r:embed="rId1"/>
          <a:stretch/>
        </p:blipFill>
        <p:spPr>
          <a:xfrm>
            <a:off x="5181480" y="1255680"/>
            <a:ext cx="2710080" cy="4197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epicycle2"/>
          <p:cNvPicPr/>
          <p:nvPr/>
        </p:nvPicPr>
        <p:blipFill>
          <a:blip r:embed="rId2"/>
          <a:stretch/>
        </p:blipFill>
        <p:spPr>
          <a:xfrm>
            <a:off x="930240" y="1276200"/>
            <a:ext cx="3675240" cy="4087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ptolemy"/>
          <p:cNvPicPr/>
          <p:nvPr/>
        </p:nvPicPr>
        <p:blipFill>
          <a:blip r:embed="rId3"/>
          <a:stretch/>
        </p:blipFill>
        <p:spPr>
          <a:xfrm>
            <a:off x="1389240" y="1276200"/>
            <a:ext cx="3144600" cy="419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Copernicus_Mars"/>
          <p:cNvPicPr/>
          <p:nvPr/>
        </p:nvPicPr>
        <p:blipFill>
          <a:blip r:embed="rId4"/>
          <a:stretch/>
        </p:blipFill>
        <p:spPr>
          <a:xfrm>
            <a:off x="4605480" y="1276200"/>
            <a:ext cx="314136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내행성의 최대이각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0" name="Picture 5" descr="maximum"/>
          <p:cNvPicPr/>
          <p:nvPr/>
        </p:nvPicPr>
        <p:blipFill>
          <a:blip r:embed="rId1"/>
          <a:stretch/>
        </p:blipFill>
        <p:spPr>
          <a:xfrm>
            <a:off x="611280" y="1268280"/>
            <a:ext cx="7813440" cy="3600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2309400" y="1268280"/>
            <a:ext cx="11408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프톨레마이오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6439320" y="1268280"/>
            <a:ext cx="1003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코페르니쿠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직선 연결선 7"/>
          <p:cNvSpPr/>
          <p:nvPr/>
        </p:nvSpPr>
        <p:spPr>
          <a:xfrm flipH="1">
            <a:off x="1042560" y="3068640"/>
            <a:ext cx="108108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행성 궤도의 크기와 순서 확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6" name="Picture 4" descr="Copernicus distance"/>
          <p:cNvPicPr/>
          <p:nvPr/>
        </p:nvPicPr>
        <p:blipFill>
          <a:blip r:embed="rId1"/>
          <a:stretch/>
        </p:blipFill>
        <p:spPr>
          <a:xfrm>
            <a:off x="684360" y="1341360"/>
            <a:ext cx="78357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코페르니쿠스 체계의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혁명성과 보수성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의 천문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혁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구도 하나의 행성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상계와 천상계 사이의 구분 철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혁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우주 크기의 확장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전에 따른 시차 관측 실패의 이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주의 거대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정체 천구 고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의 운동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7" name="Picture 5" descr="Scan0001"/>
          <p:cNvPicPr/>
          <p:nvPr/>
        </p:nvPicPr>
        <p:blipFill>
          <a:blip r:embed="rId1"/>
          <a:stretch/>
        </p:blipFill>
        <p:spPr>
          <a:xfrm>
            <a:off x="611280" y="963720"/>
            <a:ext cx="78976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운동에 대한 집착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확한 행성 위치 계산 위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minor epicycle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가 제거한 것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major epicycle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equant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7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복잡한 코페르니쿠스 체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톨레마이오스 체계보다 정확도 향상 없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2" name="Picture 4" descr="cop-sys-bb"/>
          <p:cNvPicPr/>
          <p:nvPr/>
        </p:nvPicPr>
        <p:blipFill>
          <a:blip r:embed="rId1"/>
          <a:stretch/>
        </p:blipFill>
        <p:spPr>
          <a:xfrm>
            <a:off x="2268360" y="692280"/>
            <a:ext cx="4535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당대의 반응은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중심 가설에 회의적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가 움직인다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 물리학과 성서 위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제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프톨레마이오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완전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면에서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Almagest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필적하는 유일한 작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도구적 수용과 천문표 제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s if … 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가 도는 것처럼 가정하고 계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코페르니쿠스 체계를 이용한 천문표 제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인홀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의 천구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원한 등속 원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7" name="Picture 3" descr="플라톤 천구"/>
          <p:cNvPicPr/>
          <p:nvPr/>
        </p:nvPicPr>
        <p:blipFill>
          <a:blip r:embed="rId1"/>
          <a:stretch/>
        </p:blipFill>
        <p:spPr>
          <a:xfrm>
            <a:off x="2340000" y="836640"/>
            <a:ext cx="45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 브라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46-1601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3" name="Picture 4" descr="tycho"/>
          <p:cNvPicPr/>
          <p:nvPr/>
        </p:nvPicPr>
        <p:blipFill>
          <a:blip r:embed="rId1"/>
          <a:stretch/>
        </p:blipFill>
        <p:spPr>
          <a:xfrm>
            <a:off x="2700360" y="765000"/>
            <a:ext cx="33843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정밀 관측 천문학의 시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6" name="Picture 4" descr="Urani2"/>
          <p:cNvPicPr/>
          <p:nvPr/>
        </p:nvPicPr>
        <p:blipFill>
          <a:blip r:embed="rId1"/>
          <a:srcRect l="0" t="-224" r="0" b="2483"/>
          <a:stretch/>
        </p:blipFill>
        <p:spPr>
          <a:xfrm>
            <a:off x="6012000" y="765000"/>
            <a:ext cx="3043080" cy="4967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http://fr.academic.ru/pictures/frwiki/85/Uraniborg_main_building.jpg"/>
          <p:cNvPicPr/>
          <p:nvPr/>
        </p:nvPicPr>
        <p:blipFill>
          <a:blip r:embed="rId2"/>
          <a:stretch/>
        </p:blipFill>
        <p:spPr>
          <a:xfrm>
            <a:off x="250920" y="701640"/>
            <a:ext cx="568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신성 관측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72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0" name="Picture 5" descr="Stella_Nova_320"/>
          <p:cNvPicPr/>
          <p:nvPr/>
        </p:nvPicPr>
        <p:blipFill>
          <a:blip r:embed="rId1"/>
          <a:stretch/>
        </p:blipFill>
        <p:spPr>
          <a:xfrm>
            <a:off x="1619280" y="692280"/>
            <a:ext cx="5678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혜성 관측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77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22160" y="566064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3" name="Picture 6" descr="comet_1577"/>
          <p:cNvPicPr/>
          <p:nvPr/>
        </p:nvPicPr>
        <p:blipFill>
          <a:blip r:embed="rId1"/>
          <a:stretch/>
        </p:blipFill>
        <p:spPr>
          <a:xfrm>
            <a:off x="1187280" y="426960"/>
            <a:ext cx="70218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절충적 지구중심 체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6" name="Picture 3" descr="Scan0044"/>
          <p:cNvPicPr/>
          <p:nvPr/>
        </p:nvPicPr>
        <p:blipFill>
          <a:blip r:embed="rId1"/>
          <a:srcRect l="0" t="3571" r="2532" b="5952"/>
          <a:stretch/>
        </p:blipFill>
        <p:spPr>
          <a:xfrm>
            <a:off x="2050920" y="765000"/>
            <a:ext cx="51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 체계에 대한 당대 반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9" name="Picture 4" descr="almagestum_novum_detail"/>
          <p:cNvPicPr/>
          <p:nvPr/>
        </p:nvPicPr>
        <p:blipFill>
          <a:blip r:embed="rId1"/>
          <a:stretch/>
        </p:blipFill>
        <p:spPr>
          <a:xfrm>
            <a:off x="755640" y="836640"/>
            <a:ext cx="3133800" cy="4995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4l2138d"/>
          <p:cNvPicPr/>
          <p:nvPr/>
        </p:nvPicPr>
        <p:blipFill>
          <a:blip r:embed="rId2"/>
          <a:stretch/>
        </p:blipFill>
        <p:spPr>
          <a:xfrm>
            <a:off x="4218120" y="765000"/>
            <a:ext cx="42368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의 성취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주의 타파에 결정적 기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측에 부합하는 새로운 우주체계 고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교하고 막대한 천문관측 데이터 축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티코 사후에 케플러에게 넘겨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요하네스 케플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571-1630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25" name="Picture 4" descr="kepler"/>
          <p:cNvPicPr/>
          <p:nvPr/>
        </p:nvPicPr>
        <p:blipFill>
          <a:blip r:embed="rId1"/>
          <a:stretch/>
        </p:blipFill>
        <p:spPr>
          <a:xfrm>
            <a:off x="2484360" y="692280"/>
            <a:ext cx="3959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atural-born </a:t>
            </a:r>
            <a:r>
              <a:rPr b="1" lang="ko-KR" sz="3600" spc="-1" strike="noStrike">
                <a:solidFill>
                  <a:srgbClr val="ffffff"/>
                </a:solidFill>
                <a:latin typeface="Trebuchet MS"/>
              </a:rPr>
              <a:t>코페르니쿠스주의자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열렬한 신플라톤주의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점성술과 수비주의에 탐닉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64000" y="1980720"/>
            <a:ext cx="3130560" cy="353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400" spc="-1" strike="noStrike">
                <a:solidFill>
                  <a:srgbClr val="ffffff"/>
                </a:solidFill>
                <a:latin typeface="Trebuchet MS"/>
              </a:rPr>
              <a:t>우주의 신비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(1596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64000" y="5589360"/>
            <a:ext cx="313056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티코의 조수가 되기 전부터 태양중심설 옹호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30" name="Picture 5" descr="kepler_spheres"/>
          <p:cNvPicPr/>
          <p:nvPr/>
        </p:nvPicPr>
        <p:blipFill>
          <a:blip r:embed="rId1"/>
          <a:stretch/>
        </p:blipFill>
        <p:spPr>
          <a:xfrm>
            <a:off x="611280" y="765000"/>
            <a:ext cx="46465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항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붙박이별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 행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떠돌이별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0" name="Picture 2" descr="http://phyux2.ks.ac.kr/ymp/data/others/universe_of_man/universe/cel-sphere/mars_ret.gif"/>
          <p:cNvPicPr/>
          <p:nvPr/>
        </p:nvPicPr>
        <p:blipFill>
          <a:blip r:embed="rId1"/>
          <a:stretch/>
        </p:blipFill>
        <p:spPr>
          <a:xfrm>
            <a:off x="900000" y="907920"/>
            <a:ext cx="76010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의 조수가 되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600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티코 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01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후 그의 관측자료로 화성궤도 계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타원 궤도 법칙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면적 속도 일정의 법칙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《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새로운 천문학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》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1609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∝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《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우주의 조화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》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1619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35" name="Picture 4" descr="keplerlaw"/>
          <p:cNvPicPr/>
          <p:nvPr/>
        </p:nvPicPr>
        <p:blipFill>
          <a:blip r:embed="rId1"/>
          <a:srcRect l="4787" t="2268" r="12724" b="2457"/>
          <a:stretch/>
        </p:blipFill>
        <p:spPr>
          <a:xfrm>
            <a:off x="539640" y="260280"/>
            <a:ext cx="81932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어떻게 원을 버릴 수 있었을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티코 관측 자료의 정밀성 확신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주전원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이심원 등을 이용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8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분 이상의 오차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원 궤도 폐기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달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타원 등 새로운 궤도 시도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80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여 회의 시행착오 끝에 화성 타원 궤도 확정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1980720"/>
            <a:ext cx="806472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어떻게 등속을 버릴 수 있었을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체물리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0320" y="378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운동의 원인은 태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2160" y="3860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성이 화성의 공전 속도가 느리듯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나의 행성도 태양으로부터 멀어지면 느려지지 않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초기 아이디어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∝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/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r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완성된 아이디어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면적속도 일정의 법칙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46" name="Picture 2" descr="Kepler velosity 2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문학자들의 전면적 수용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 궤도 법칙은 관측 자료와 완전히 일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그러나 일반인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자연철학자들은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코페르니쿠스주의자의 과제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우주의 중심에 지구가 있는 것이 아니라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그리고 지구가 태양 주위를 선회하고 있다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우리는 왜 지구의 운동을 인식하지 못하는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수직으로 쏘아 올린 화살은 왜 뒤쳐지지 않는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※  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천문학 혁명’은 ‘역학 혁명’을 잉태하고 있었음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코페르니쿠스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천구의 회전에 관하여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권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오시안더가 쓴 서문을 통해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자연철학과 구별되는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당시 천문학 이론의 지위와 특징을 추측해보자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코페르니쿠스가 당시 천문학에 대해 가진 불만은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우주의 광대함이 코페르니쿠스에게 중요하게 다루어지는 이유는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행성 운동을 간단하게 설명할 수 있다는 점 외에 코페르니쿠스는 지구의 운동을 어떻게 변호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또 그의 논변은 얼마나 설득력이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3_years_of_saturn"/>
          <p:cNvPicPr/>
          <p:nvPr/>
        </p:nvPicPr>
        <p:blipFill>
          <a:blip r:embed="rId1"/>
          <a:stretch/>
        </p:blipFill>
        <p:spPr>
          <a:xfrm>
            <a:off x="291960" y="549360"/>
            <a:ext cx="8439120" cy="5111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토성의 운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톨레마이오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Ptolemy)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Egypt, 90 - 168 A.D.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2160" y="59500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알마게스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Almagest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를 통해 천문학 집대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6" name="Picture 2" descr="http://upload.wikimedia.org/wikipedia/commons/thumb/3/36/Ptolemaeus.jpg/220px-Ptolemaeus.jpg"/>
          <p:cNvPicPr/>
          <p:nvPr/>
        </p:nvPicPr>
        <p:blipFill>
          <a:blip r:embed="rId1"/>
          <a:stretch/>
        </p:blipFill>
        <p:spPr>
          <a:xfrm>
            <a:off x="2771640" y="692280"/>
            <a:ext cx="3360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리 행성 천문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의 운동은 원운동의 합성으로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9d9d9"/>
                </a:solidFill>
                <a:latin typeface="Georgia"/>
              </a:rPr>
              <a:t>주전원</a:t>
            </a:r>
            <a:r>
              <a:rPr b="0" lang="en-US" sz="2100" spc="-1" strike="noStrike">
                <a:solidFill>
                  <a:srgbClr val="d9d9d9"/>
                </a:solidFill>
                <a:latin typeface="Georgia"/>
              </a:rPr>
              <a:t>(epicycle), </a:t>
            </a:r>
            <a:r>
              <a:rPr b="0" lang="ko-KR" sz="2100" spc="-1" strike="noStrike">
                <a:solidFill>
                  <a:srgbClr val="d9d9d9"/>
                </a:solidFill>
                <a:latin typeface="Georgia"/>
              </a:rPr>
              <a:t>이심</a:t>
            </a:r>
            <a:r>
              <a:rPr b="0" lang="en-US" sz="2100" spc="-1" strike="noStrike">
                <a:solidFill>
                  <a:srgbClr val="d9d9d9"/>
                </a:solidFill>
                <a:latin typeface="Georgia"/>
              </a:rPr>
              <a:t>(eccentric), </a:t>
            </a:r>
            <a:r>
              <a:rPr b="0" lang="ko-KR" sz="2100" spc="-1" strike="noStrike">
                <a:solidFill>
                  <a:srgbClr val="d9d9d9"/>
                </a:solidFill>
                <a:latin typeface="Georgia"/>
              </a:rPr>
              <a:t>대심</a:t>
            </a:r>
            <a:r>
              <a:rPr b="0" lang="en-US" sz="2100" spc="-1" strike="noStrike">
                <a:solidFill>
                  <a:srgbClr val="d9d9d9"/>
                </a:solidFill>
                <a:latin typeface="Georgia"/>
              </a:rPr>
              <a:t>(equant)</a:t>
            </a:r>
            <a:endParaRPr b="0" lang="en-US" sz="21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주전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epicycle)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역행운동의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1" name="Picture 6" descr="ptolemy"/>
          <p:cNvPicPr/>
          <p:nvPr/>
        </p:nvPicPr>
        <p:blipFill>
          <a:blip r:embed="rId1"/>
          <a:stretch/>
        </p:blipFill>
        <p:spPr>
          <a:xfrm>
            <a:off x="2484360" y="620640"/>
            <a:ext cx="40323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2160" y="6092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epicycle 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질적 설명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 + eccentric &amp; equant 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미세 조정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4" name="Picture 2" descr="http://www.myastrologybook.com/epicycle.gif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0:47:33Z</dcterms:created>
  <dc:creator>zolaist</dc:creator>
  <dc:description/>
  <dc:language>en-US</dc:language>
  <cp:lastModifiedBy>zolaist</cp:lastModifiedBy>
  <dcterms:modified xsi:type="dcterms:W3CDTF">2011-03-23T05:02:32Z</dcterms:modified>
  <cp:revision>24</cp:revision>
  <dc:subject/>
  <dc:title>코페르니쿠스와 천문학 혁명</dc:title>
</cp:coreProperties>
</file>